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43C-358D-48C7-A4F6-A194146C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3EE-88E5-4E9A-ADC3-AF675F72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ECE-CA4D-47E7-8F23-DD9235FE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FC1-E1E4-4CAE-94A7-F1D39BC2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258-7E00-496B-9E55-48392344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30A-0505-4D01-BDE7-607B98C0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D02-BE4E-4BFD-AE53-548F8A7E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0D1-5DF5-4259-B501-F930EBF3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63A-1F8D-4BDF-9246-A8F17058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F84-3B1E-4811-B5A2-B082AA21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2EA-F57E-4827-9533-3E67C581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B5B-5F10-4D4C-A2ED-78767B2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CEDF-7768-49E3-9BB3-B01A9310BCB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81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di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, Assessorato alle Pari Opportunità e ai Temp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&amp;S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cidonna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partimento di Scienze della Comunicazione dell’Università di Sal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lazione uomo donna per prevenire la violenza di gen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ala Pignatiello Palazzo San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2 nov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e 1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e donne subiscono violenza da parte di familiari, conoscenti o estra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za fisica, sessuale, psicologica, familiare ed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i ISTAT 2006 (diffusi nel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l fenomeno della violenza alle don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6 milioni 743 mi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donne da 16 a 70 anni vittime di violenza fisica o sessua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l corso della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14,3% delle donne con un rapporto di coppia attuale o precedente ha subito almeno una violenza fisica o sessuale dal partner, se si considerano solo le donne con un ex partner la percentuale arriva al 17,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iolenza fisica è più di frequente opera dei partner (1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lla quasi totalità dei casi le violenze non sono denun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olenze domestiche sono in maggioranza g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 più colpite da violenza domestica le donne il cui partner è violento anche all’estern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milioni 134 mila donne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o subito o subiscono violen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 milioni 77 mila don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comportamenti persecutori (stalking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 milione 40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a sessuale prima dei 16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9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e ripetute da partner e avevano figli al momento della vio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amo partiti dai dati nazionali per capire la “scarsa significatività” dei dati a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460 donne si sono rivolte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entro Antiviolenza “A.U.R.O.R.A.” del Comune di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questo nel Piano strateg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ttà: femminile, plurale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iamo puntando anche sulla prev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garantire i livelli di sicurezza a misura di do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e servizi di contrasto della viol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le donne e sui min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re ai sentim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del proget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entimenti differen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zare al tema della prevenzione chi quotidianamente affronta il problema delle violenze alle donne per far sviluppare tra loro nuove forme di collabo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zione di una rete territoriale per la prevenzione della violenza alle d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14680" y="324792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o formativo nelle scu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azzi e ragazze della Scuola Media “G. Gigante”, dell’I.S.I.S. “F. De Sanctis” e del I.T.C. “F. Galiani” insieme ai docenti, ai formatori ed agli esperti analizzeranno la dimensione affettiva e le relazioni tra sessi allo scopo di esplorare stereotipi e modelli culturali che agiscono nel definire ruoli e rel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onfronteranno sulle coppie di sentimenti differenti: amore e odio, paura e desiderio, gioia e dol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23:05Z</dcterms:created>
  <dc:creator>Antonio Prigiobbo</dc:creator>
  <dc:description/>
  <dc:language>en-US</dc:language>
  <cp:lastModifiedBy>Giuliana</cp:lastModifiedBy>
  <dcterms:modified xsi:type="dcterms:W3CDTF">2008-10-29T11:10:47Z</dcterms:modified>
  <cp:revision>14</cp:revision>
  <dc:subject/>
  <dc:title>Presentazione di PowerPoint</dc:title>
</cp:coreProperties>
</file>